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28.wmf" ContentType="image/x-wm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3E2F4-B2FC-4407-8AC4-5250258F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F45F3-09F8-4CDE-970D-0B4D5DA6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58B2-7027-418E-81B2-4D66EE28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F435-2B76-437A-99C9-39CD71AB6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9EFB-2A6F-418F-889B-60C0F35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34461-759C-46EA-86ED-52424D39FD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58CE9-0979-48D3-98FF-63021E6761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5E4E0-EED7-494F-A09D-867AB713F3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F009D-4153-4CB6-BC3C-4990E86936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CD306-1048-4EB3-A8F4-F6F1D68E84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DECD8-0500-4497-A8EE-F7A9624E57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45B46-8628-42A3-BCB6-F1EC2E9C55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8C59F-DCBC-4B70-B10A-FBA7472AE5F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D46DD-A51B-4D1B-BA86-B7965E12D1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447B-0FAE-40D4-B902-79B22C61F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8D7F-DD16-4F66-A69B-BC678F00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1190-ABC4-411D-A9A1-10C4CB915C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C4972-EAA3-423D-98F0-642E8F6658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0FD6-7CB4-4729-8251-2F904D475E5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2869-FC4D-4DF6-95D4-E6B55BD5C0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C658-3A60-432D-8F1D-BF520678497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19E2-E1AB-4836-AE8C-C3774E8473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1970-C1EB-44D0-82B4-BEA0B8AB6C4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FA76-A726-4397-9CC1-ED1525202E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66B4-DF8E-4E71-A8E7-C105892A02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1ADF-3CF5-4DCE-A42A-CD0BAF9B3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FB83-796C-4E90-A5C0-997B58BCE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6328-AE92-465D-9080-AA20EE56993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0E0EC1-027D-4D5E-8442-809ACC3A3C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D92EA-719B-4422-B322-AC03D8879C3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6377B1-2B41-45A7-9D08-D9F1B53C15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C18C9-45D7-4D68-9B84-73E2F66CC4D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36EB6-A8E5-411B-8D53-779B94F35E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4BF91-61F9-45CD-98CA-A86D5EE235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19078-8284-41B4-BC50-6FB6D97EA3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1C570-C22D-4EE1-892F-7F90B95D4B4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1B922-7B9D-4E19-B570-112463AE3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44F-DCA5-434C-9BD0-B90F9C92FA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7DBFE-532A-4064-84CA-BEF4F95642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E9460-69E1-40A1-BF04-F1892B1662D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99C84-6387-4D4A-9A56-293E505166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1FFDA-35AE-4F66-9C67-9848E17ACE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35F24-3437-4921-B1D3-8DAE03DA6F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A6A1D-8F9A-4537-8B6D-94FE468CF1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21DFF-7CC2-4A8A-B191-A792702806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B07D2-A8A0-464F-8B0B-130C246C8F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67089-6FAA-4D65-A9CD-398D4271B09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12F42-F2A2-499A-8001-4537458BA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FB3-1304-4C84-8F8B-F883991388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22DC3-314E-47E4-B574-846480E575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FB282-0898-4441-BD8A-272D777ACC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C7E80-27F9-4E9A-A766-D67BF91BFD9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6FA90-B798-474F-A140-475E50F502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44D2F-2CE1-44C3-AB76-0B841F7552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EB62-7CF8-4408-A0C0-F2D290A04C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5B7EE-AB06-4340-BD09-9619927FEB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37DA-B9C5-43A7-8C88-4F6AD33678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9B37-CB8C-4AE6-9249-F0A57C59518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5578-0935-4C98-81AB-44891FFAB6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D1F-1817-41FA-964F-5E1F195CF6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66F0-759F-4758-844A-82AB4BB819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A54D-921A-4841-A53F-9CC077A646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265CD-6891-4C9B-9AFB-02E054E0FE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A5F7-250A-482F-8A85-B8EABCFC98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86BE-381C-4D01-9F71-7C4CF394772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F907-0EEA-46A5-833B-19E21D7E22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1EF3-DA4B-423C-B9EE-E5A4F14CA92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795C2-21AD-4247-B6B8-0D5147E483D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0DFC4-25A7-4A5A-85B8-FD3E708E0E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B700B-DE3D-4E90-9946-0CCEC3ABE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54A-102C-4427-8A6B-E9CE9176AE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3F479-6D14-4B4D-AFB8-B1CC55F566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12A7B-02C0-406C-8764-05E3633A22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B1D7F-B821-4EE4-B98F-3A0C690EABB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A1DEF7-8871-420E-A817-1BF8C72FA8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4970B-685C-4788-8C7E-DE24919CB03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BF7E0-EF98-4CA1-8580-DB93F4B3810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444F1-F4D7-48F4-935E-69DD4CB54A4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41528-7935-455D-8C10-112EC815847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4FDE7-9B63-4FF4-9A92-E8F6B27145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4623D-5C2D-4763-951B-19F9AE5D1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D74-2DB5-42AC-BC1C-A5245C57B8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A85D9-3403-41A0-8F72-7B2C16FC81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87367-51BC-4E9B-B3D0-AEEB5FAF9C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76EF7-B5E4-4E76-80CE-C4490C5187B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43925-F7B1-4AAA-AB00-CC7AEDB19B0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DE727-9529-4EE4-9AA1-E15B88D2D47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34679-41CA-4D8F-AE9F-59A31909DBA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015B1-CE10-43EF-B75A-62B9D04382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E98BE-1AFA-4B99-9641-C2CF3155AA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39C80-B7E3-48D4-BA7A-C5BA849D3F8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51ED1-8FD0-4DEF-83EF-AB7BA0547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878-7CB0-466F-8570-70D22DE19E7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2B8CC-E9AF-4AE8-B619-49494028A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5CD-382C-483D-BF63-09A708E676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7FA0-6818-4C6A-B085-76D7332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BB8-3601-42C0-B259-D1747804D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5E7-2B91-4737-9448-03FDFCC65A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F38-2081-440B-986A-F8820FEE9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048-EDFA-4605-92A2-8074AF1E93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6D4-14A6-4A2B-8F7D-081DE38019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7E0C2-5C61-41F2-B23B-8D6BE7023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93DF-ADD8-4387-96B0-4FA9011A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A5BE-2A94-4EBB-B0D7-EAB0AD1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89D02-B988-4583-9E6E-C4A1FC1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CDF13-3951-42F7-BE65-A0E6A857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25AF-3832-4E7D-814A-8316E5F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640B-48E1-422A-BC29-E5A8136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A8A73-F9B4-4093-A93C-3B1C2DD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1906-44DC-416E-9171-DD11DB9B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386DA-AFDC-4199-981F-B41ED56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6D0B-22FA-44C7-B3AB-7C9EC67A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B2F0-8B71-4EC0-9FA0-987F3AB5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7C03-7FE4-4104-BE39-FFCB1461E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1DCA-826D-47C5-8398-AB0290007F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81F6-BE59-473B-9B77-8436D0EE82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09E6-225E-416F-A98D-F95B6A002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858A-8D2D-4D2A-B1E0-F0D16A89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976-F490-40EB-8848-4EADDBEC06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E28-67C1-46D2-835A-A5EC50FB58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555-8347-41A6-8324-56DA780448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815-0D74-4518-9AA1-BF49A531A9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CC2F-E893-40E6-94B2-A4A0B41793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649-6A49-4C39-AA12-533B63CDEF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6506-72A9-4DB5-ABD6-742797CD9E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85E7-8EDB-4110-A557-9B0350564A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AD7-DA49-4D09-96C8-8979C5C492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F5EF8-DF74-4FD4-BDCA-1FB7EC08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66BA-04A6-452A-840F-9E409A2E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7E9F7-0DCD-440B-86D8-3B54D2658E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84445-A184-487C-AEF2-F84EB601C0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B1538-1D76-4DF5-B40C-9E643E0D51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BFAFE-B173-4EBF-8DA4-7BECC02AD9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4966E-7CC7-41C6-87A5-9F1B33DBD7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F2308-EF05-4B8F-8E36-4B80FCD05C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D35E2-12A2-4685-B162-722DBFF243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E722-C0A3-451C-9B90-55E11CB777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0943D-3CCE-44CE-942A-1951183949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C5AE4-44BE-4D1A-A067-8798128A8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BBD0-12DD-429E-A4D8-3F85D06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A830C-6AFA-48F6-9DE8-D83ED5726A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650B2-8248-4325-9EAA-4E3D1B2DB7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CEDB8-D41C-4215-B6DF-B1A23CCC11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F4C8A-095C-4CFB-B52C-0D6309528C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A585B-FCEA-42D3-ADA7-3E57E52BF9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E52B3-D6F5-4C12-AFC9-3E6E19E1BC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CC137-2B8B-4EDB-AAA2-A26F810BC91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36E08-764A-4CB9-913F-8B9982518E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59A31-BB95-41A2-86C8-C37C1A5C5D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C9FBC-5DE0-4FAD-B33E-F01253802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44DA-5C42-41AF-8174-9EE1FAA4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083D-C849-41D5-9013-5168804813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8AF1E-B96C-4975-BDCC-096849407A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8AA0A-7ACB-4C1B-85E8-48CA2DB5B2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490E-CD97-451E-887C-02B68FEBF4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3097-39B8-4182-8324-354E39BD02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15F0-1991-4DA9-AE30-3997A02EC0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16F7-1643-48C0-87F7-B25BF348C9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E4FB-92B8-4FBB-8B8D-F57BD15617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033B-6FFF-41F9-BBFE-D43E79127B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8865-C6DD-4BA3-8982-4CB5A703A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0568-962E-4EBB-9B8A-AC7A120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CFEA-54BA-4D84-8957-3DF833BFEA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9487-92C0-4928-8A7E-B4B97AA2B3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6960-0A31-4930-B2C8-157B2107E4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76A7-5C60-42C2-B0A1-886C8D89E9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C8A4-D89C-4424-AF21-232EC6A2CA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1F770-A159-4EF7-9C73-4EB2C44939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C0A53-4064-43C1-81A2-39E2FB4A87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13B99-91CD-48D3-9FAB-8B915EADD0D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34552-EA7A-414D-848C-49C4459EC9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3A6E3-62FE-4BFA-81D5-0C4088788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F211-9930-4739-81A2-376B95E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EAF45-AFE4-4A15-B0D6-5D30600761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E5E3A-D362-4A75-91BB-2192762EFC8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8B13C-767F-4030-A27E-55B2190A28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733DB-159F-443E-B084-1BA1202076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CF1BE-2926-4783-8B28-CB06B689C1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B2ABE-FDEE-4680-908E-4A1718E119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33E20-DDA6-4F9B-89E9-BFDEF6D9E6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E2C52-5A28-4B78-AD03-6443BC85B0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C3CFA-3E0F-4663-A745-F1CB436653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6F20D-4668-4C54-88E9-20012858D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-51120"/>
            <a:ext cx="8040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0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6002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9320" y="6273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64960" y="6273720"/>
            <a:ext cx="48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97680" y="6273360"/>
            <a:ext cx="989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8F9CE-432C-4E9C-A700-A4D040EECA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2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6E366-263A-4876-BCAE-F3FB4A315E3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3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0A03E-8759-4B50-9842-3250112C55D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14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6852C-DE85-4211-94AA-7FD5AEF07D9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15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90AC4-9A09-48E9-9B3B-69885517811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6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B37E7-4B85-4BFF-8B4B-10E8549D223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7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8F0C7-5CFB-444C-A62F-8A1EDC626BA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C87F7-3C28-416B-A785-C0B6F282FF2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-51120"/>
            <a:ext cx="8040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0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6002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5629320" y="6275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 Unicode MS"/>
              </a:rPr>
              <a:t>08/22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7897680" y="6137280"/>
            <a:ext cx="9892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96F70-7618-4B94-9BF8-5C9BAB9B3261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 Unicode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8E92A-9E4E-4B19-8563-7D1403160EB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7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56C2A-1B85-4FB6-B218-75AF9B122AC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8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CC3C8-AAB6-4864-A11E-E983419F553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9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1449F-2AEE-467B-A664-6DC2DB67856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0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A1A41-2D7F-4087-A109-F5D72974029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1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4BA6E-6FBA-4720-9DF1-DA43C7080C1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comic"/>
                <a:ea typeface="MingLiU-ExtB"/>
              </a:rPr>
              <a:t>Direct Instruction: Dichotomous Keys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113200" cy="35719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At choice 5, you make another dichotomous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414360" y="2514600"/>
            <a:ext cx="8267760" cy="5904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4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 rot="1680000">
            <a:off x="5587920" y="4547160"/>
            <a:ext cx="216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step 6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"/>
          <p:cNvSpPr/>
          <p:nvPr/>
        </p:nvSpPr>
        <p:spPr>
          <a:xfrm>
            <a:off x="2819520" y="32004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664d"/>
                </a:solidFill>
                <a:latin typeface="Arial"/>
              </a:rPr>
              <a:t>5a is 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1" descr=""/>
          <p:cNvPicPr/>
          <p:nvPr/>
        </p:nvPicPr>
        <p:blipFill>
          <a:blip r:embed="rId1"/>
          <a:stretch/>
        </p:blipFill>
        <p:spPr>
          <a:xfrm>
            <a:off x="5181480" y="3110040"/>
            <a:ext cx="1865520" cy="35240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"/>
          <p:cNvSpPr/>
          <p:nvPr/>
        </p:nvSpPr>
        <p:spPr>
          <a:xfrm>
            <a:off x="398520" y="120348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Keep going until you come to a st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that gives you the creature’s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2"/>
          <a:stretch/>
        </p:blipFill>
        <p:spPr>
          <a:xfrm>
            <a:off x="0" y="3059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6689520" cy="3812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 rot="20340000">
            <a:off x="1754640" y="42613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agneto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Box 2"/>
          <p:cNvSpPr/>
          <p:nvPr/>
        </p:nvSpPr>
        <p:spPr>
          <a:xfrm>
            <a:off x="685800" y="229716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  a.    The creature has one antennae                            Go to Step 7.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" descr=""/>
          <p:cNvPicPr/>
          <p:nvPr/>
        </p:nvPicPr>
        <p:blipFill>
          <a:blip r:embed="rId1"/>
          <a:stretch/>
        </p:blipFill>
        <p:spPr>
          <a:xfrm>
            <a:off x="4273560" y="2514600"/>
            <a:ext cx="1898640" cy="32576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Choose a new creature and </a:t>
            </a:r>
            <a:r>
              <a:rPr b="1" lang="en-US" sz="2800" spc="-1" strike="noStrike">
                <a:solidFill>
                  <a:srgbClr val="0000ff"/>
                </a:solidFill>
                <a:latin typeface="News Gothic MT"/>
              </a:rPr>
              <a:t>start at step 1a and 1b </a:t>
            </a: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again. Continue until you find the creature’s na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-45720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"/>
          <p:cNvPicPr/>
          <p:nvPr/>
        </p:nvPicPr>
        <p:blipFill>
          <a:blip r:embed="rId3"/>
          <a:stretch/>
        </p:blipFill>
        <p:spPr>
          <a:xfrm>
            <a:off x="228600" y="2448000"/>
            <a:ext cx="990720" cy="16668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5"/>
          <p:cNvSpPr/>
          <p:nvPr/>
        </p:nvSpPr>
        <p:spPr>
          <a:xfrm>
            <a:off x="528480" y="365760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2705040" y="56116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664d"/>
                </a:solidFill>
                <a:latin typeface="Arial"/>
              </a:rPr>
              <a:t>Where do you start Ag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73880" cy="18288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n, find the names of all the creatur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549360" y="108000"/>
            <a:ext cx="80420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549360" y="1752480"/>
            <a:ext cx="80420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1. a. wings covered by an exoskeleton – go to step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wings freely observed – Go to step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2. a. body has a round shape ……….ladybug, a red beetle with black  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body has an elongated shape ……….grasshopper, a green insect that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3. a. wings point out from the side of the body ……….dragonfly,  an insect that is 10- 15 cm long and lives in mar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wings point to the posterior of the body ……….housefly, a flying insect with red eyes and an annoying buz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3124080" y="274680"/>
            <a:ext cx="1803600" cy="1352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7275600" y="274680"/>
            <a:ext cx="1766880" cy="1325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3"/>
          <a:stretch/>
        </p:blipFill>
        <p:spPr>
          <a:xfrm>
            <a:off x="5181480" y="2746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4"/>
          <a:stretch/>
        </p:blipFill>
        <p:spPr>
          <a:xfrm>
            <a:off x="895320" y="274680"/>
            <a:ext cx="166356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"/>
          <p:cNvSpPr/>
          <p:nvPr/>
        </p:nvSpPr>
        <p:spPr>
          <a:xfrm>
            <a:off x="519120" y="-304920"/>
            <a:ext cx="8624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if I needed to make a key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92160" y="1219320"/>
            <a:ext cx="8915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Use constant characteristic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ather than variable ones. (Flowers change with the seas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Use measurement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ther than terms like "large" and "small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buClr>
                <a:srgbClr val="ff0000"/>
              </a:buClr>
              <a:buFont typeface="News Gothic MT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Make the choice a positive on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something "is" instead of "is not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- Ex: snake ears are internal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buClr>
                <a:srgbClr val="595959"/>
              </a:buClr>
              <a:buFont typeface="News Gothic MT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possible,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start both choices of a pair with the same word or i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the body is “round” vs the body is “squa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Finish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he dichotomous key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with a full description of the 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PMingLiU"/>
              </a:rPr>
              <a:t>Dichotomous k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533520" y="2133720"/>
            <a:ext cx="7999200" cy="6397560"/>
            <a:chOff x="533520" y="2133720"/>
            <a:chExt cx="7999200" cy="6397560"/>
          </a:xfrm>
        </p:grpSpPr>
        <p:graphicFrame>
          <p:nvGraphicFramePr>
            <p:cNvPr id="708" name="Object 3"/>
            <p:cNvGraphicFramePr/>
            <p:nvPr/>
          </p:nvGraphicFramePr>
          <p:xfrm>
            <a:off x="533520" y="2133720"/>
            <a:ext cx="7999200" cy="639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133720"/>
                      <a:ext cx="7999200" cy="63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Text Box 4"/>
            <p:cNvSpPr/>
            <p:nvPr/>
          </p:nvSpPr>
          <p:spPr>
            <a:xfrm>
              <a:off x="533520" y="2133720"/>
              <a:ext cx="7999200" cy="63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5"/>
          <p:cNvSpPr/>
          <p:nvPr/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PMingLiU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PMingLiU"/>
              </a:rPr>
              <a:t> Example of a dichotomous ke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PMingLiU"/>
              </a:rPr>
              <a:t>Dichotomous k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533520" y="1219320"/>
            <a:ext cx="81788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PMingLiU"/>
              </a:rPr>
              <a:t>the dichotomous key can also be expressed in a diagram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Object 3"/>
          <p:cNvGraphicFramePr/>
          <p:nvPr/>
        </p:nvGraphicFramePr>
        <p:xfrm>
          <a:off x="990720" y="1981080"/>
          <a:ext cx="73152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7080" y="838080"/>
            <a:ext cx="89913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Famili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chotomous  Divi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0" y="1603440"/>
            <a:ext cx="54864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(organi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us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 (spec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92436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o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99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all 8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Dichotomous Keys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Shorthand/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Mnemonics/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main Ideas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 on 10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fe is organized at all levels from cells to biosphe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B3. b All Organisms and systems are organized from simple parts into complex systems that must maintain homeostasis in order to surviv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728640" y="5335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How is life organiz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"/>
          <p:cNvSpPr/>
          <p:nvPr/>
        </p:nvSpPr>
        <p:spPr>
          <a:xfrm>
            <a:off x="376200" y="9698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But what if we find things we don't know and we want to know what they are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600"/>
            </a:br>
            <a:br>
              <a:rPr sz="4600"/>
            </a:b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322280" y="3298680"/>
            <a:ext cx="6499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6172200" y="2827440"/>
            <a:ext cx="2747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"/>
          <p:cNvGrpSpPr/>
          <p:nvPr/>
        </p:nvGrpSpPr>
        <p:grpSpPr>
          <a:xfrm>
            <a:off x="3505320" y="2147760"/>
            <a:ext cx="2514600" cy="1943280"/>
            <a:chOff x="3505320" y="2147760"/>
            <a:chExt cx="2514600" cy="1943280"/>
          </a:xfrm>
        </p:grpSpPr>
        <p:pic>
          <p:nvPicPr>
            <p:cNvPr id="640" name="Picture 4" descr=""/>
            <p:cNvPicPr/>
            <p:nvPr/>
          </p:nvPicPr>
          <p:blipFill>
            <a:blip r:embed="rId2"/>
            <a:stretch/>
          </p:blipFill>
          <p:spPr>
            <a:xfrm>
              <a:off x="3505320" y="2147760"/>
              <a:ext cx="25146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5"/>
            <p:cNvSpPr/>
            <p:nvPr/>
          </p:nvSpPr>
          <p:spPr>
            <a:xfrm>
              <a:off x="3767040" y="28080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’s my name !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Box 2"/>
          <p:cNvSpPr/>
          <p:nvPr/>
        </p:nvSpPr>
        <p:spPr>
          <a:xfrm>
            <a:off x="228600" y="5029200"/>
            <a:ext cx="58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e use something’s characteristics in a similar way using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"/>
          <p:cNvSpPr/>
          <p:nvPr/>
        </p:nvSpPr>
        <p:spPr>
          <a:xfrm>
            <a:off x="304920" y="-185760"/>
            <a:ext cx="8839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chotomous Key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228600" y="1109520"/>
            <a:ext cx="891540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dichotomous key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s a tool that allows the user to determine the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dentity of items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n the natural world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based on the items character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"Dichotomous" me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   “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ＭＳ Ｐゴシック"/>
              </a:rPr>
              <a:t>divided into two parts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”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reek orig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ichotomous keys always give 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  <a:ea typeface="ＭＳ Ｐゴシック"/>
              </a:rPr>
              <a:t>two distinct choices in each step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, often they are oppo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lack/white; good/evil; pointed/rou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0" y="274680"/>
            <a:ext cx="93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News Gothic MT"/>
              </a:rPr>
              <a:t>How to use a dichotomous ke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819520" y="1119240"/>
            <a:ext cx="3124080" cy="3924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"/>
          <p:cNvPicPr/>
          <p:nvPr/>
        </p:nvPicPr>
        <p:blipFill>
          <a:blip r:embed="rId2"/>
          <a:stretch/>
        </p:blipFill>
        <p:spPr>
          <a:xfrm>
            <a:off x="2352600" y="4324320"/>
            <a:ext cx="3819600" cy="284796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4"/>
          <p:cNvGrpSpPr/>
          <p:nvPr/>
        </p:nvGrpSpPr>
        <p:grpSpPr>
          <a:xfrm>
            <a:off x="6172200" y="4987800"/>
            <a:ext cx="3124080" cy="1913040"/>
            <a:chOff x="6172200" y="4987800"/>
            <a:chExt cx="3124080" cy="1913040"/>
          </a:xfrm>
        </p:grpSpPr>
        <p:sp>
          <p:nvSpPr>
            <p:cNvPr id="650" name="Rectangle 3"/>
            <p:cNvSpPr/>
            <p:nvPr/>
          </p:nvSpPr>
          <p:spPr>
            <a:xfrm rot="10800000">
              <a:off x="6176520" y="4995720"/>
              <a:ext cx="174780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Picture 7" descr=""/>
            <p:cNvPicPr/>
            <p:nvPr/>
          </p:nvPicPr>
          <p:blipFill>
            <a:blip r:embed="rId3"/>
            <a:stretch/>
          </p:blipFill>
          <p:spPr>
            <a:xfrm>
              <a:off x="6858000" y="4987800"/>
              <a:ext cx="2438280" cy="18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Box 2"/>
            <p:cNvSpPr/>
            <p:nvPr/>
          </p:nvSpPr>
          <p:spPr>
            <a:xfrm>
              <a:off x="6172200" y="501912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A! HA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chotomous Ke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5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73880" cy="18288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Here are creatures we don’t kno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Lets choose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1100520" y="1828800"/>
            <a:ext cx="712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nly one creature at a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2"/>
          <p:cNvGrpSpPr/>
          <p:nvPr/>
        </p:nvGrpSpPr>
        <p:grpSpPr>
          <a:xfrm>
            <a:off x="3657600" y="2819520"/>
            <a:ext cx="1593720" cy="2695320"/>
            <a:chOff x="3657600" y="2819520"/>
            <a:chExt cx="1593720" cy="269532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tretch/>
          </p:blipFill>
          <p:spPr>
            <a:xfrm>
              <a:off x="3657600" y="2819520"/>
              <a:ext cx="159372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4"/>
            <p:cNvSpPr/>
            <p:nvPr/>
          </p:nvSpPr>
          <p:spPr>
            <a:xfrm>
              <a:off x="3657600" y="2819520"/>
              <a:ext cx="1593720" cy="26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5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436680" y="3929040"/>
            <a:ext cx="2930400" cy="197316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5763960" cy="865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Read steps 1a and 1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112840" cy="3571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5"/>
          <p:cNvSpPr/>
          <p:nvPr/>
        </p:nvSpPr>
        <p:spPr>
          <a:xfrm>
            <a:off x="2971800" y="4952880"/>
            <a:ext cx="501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Decide which statement is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0" y="-111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2"/>
          <p:cNvSpPr/>
          <p:nvPr/>
        </p:nvSpPr>
        <p:spPr>
          <a:xfrm>
            <a:off x="2819520" y="562464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664d"/>
                </a:solidFill>
                <a:latin typeface="Arial"/>
              </a:rPr>
              <a:t>1b is 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69160" cy="6858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2"/>
          <p:cNvSpPr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Then follow the directions after that st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 rot="20280000">
            <a:off x="3737160" y="4270320"/>
            <a:ext cx="38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step 5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1067040" cy="5443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2112840" cy="357192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 -6 L 0.14167 0.00486">
                                      <p:cBhvr>
                                        <p:cTn id="68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485 L 0.14653 -0.00139 E">
                                      <p:cBhvr>
                                        <p:cTn id="72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28:34Z</dcterms:created>
  <dc:creator>The International School</dc:creator>
  <dc:description/>
  <dc:language>en-US</dc:language>
  <cp:lastModifiedBy>Jill Luckey</cp:lastModifiedBy>
  <dcterms:modified xsi:type="dcterms:W3CDTF">2017-10-23T17:11:09Z</dcterms:modified>
  <cp:revision>37</cp:revision>
  <dc:subject/>
  <dc:title>PowerPoint Presentation  -  Dichotomous Key</dc:title>
</cp:coreProperties>
</file>